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5.jpeg" ContentType="image/jpeg"/>
  <Override PartName="/ppt/media/image22.gif" ContentType="image/gif"/>
  <Override PartName="/ppt/media/image18.jpeg" ContentType="image/jpeg"/>
  <Override PartName="/ppt/media/image21.png" ContentType="image/png"/>
  <Override PartName="/ppt/media/image20.gif" ContentType="image/gif"/>
  <Override PartName="/ppt/media/image19.gif" ContentType="image/gif"/>
  <Override PartName="/ppt/media/image14.jpeg" ContentType="image/jpeg"/>
  <Override PartName="/ppt/media/image15.gif" ContentType="image/gif"/>
  <Override PartName="/ppt/media/image5.jpeg" ContentType="image/jpeg"/>
  <Override PartName="/ppt/media/image28.gif" ContentType="image/gif"/>
  <Override PartName="/ppt/media/image1.jpeg" ContentType="image/jpeg"/>
  <Override PartName="/ppt/media/image2.jpeg" ContentType="image/jpeg"/>
  <Override PartName="/ppt/media/image23.gif" ContentType="image/gif"/>
  <Override PartName="/ppt/media/image3.png" ContentType="image/png"/>
  <Override PartName="/ppt/media/image13.gif" ContentType="image/gif"/>
  <Override PartName="/ppt/media/image30.jpeg" ContentType="image/jpeg"/>
  <Override PartName="/ppt/media/image34.jpeg" ContentType="image/jpeg"/>
  <Override PartName="/ppt/media/image44.gif" ContentType="image/gif"/>
  <Override PartName="/ppt/media/image35.gif" ContentType="image/gif"/>
  <Override PartName="/ppt/media/image11.jpeg" ContentType="image/jpeg"/>
  <Override PartName="/ppt/media/image9.jpeg" ContentType="image/jpeg"/>
  <Override PartName="/ppt/media/image31.jpeg" ContentType="image/jpeg"/>
  <Override PartName="/ppt/media/image38.gif" ContentType="image/gif"/>
  <Override PartName="/ppt/media/image40.jpeg" ContentType="image/jpeg"/>
  <Override PartName="/ppt/media/image42.gif" ContentType="image/gif"/>
  <Override PartName="/ppt/media/image33.jpeg" ContentType="image/jpeg"/>
  <Override PartName="/ppt/media/image43.gif" ContentType="image/gif"/>
  <Override PartName="/ppt/media/image45.jpeg" ContentType="image/jpeg"/>
  <Override PartName="/ppt/media/image16.jpeg" ContentType="image/jpeg"/>
  <Override PartName="/ppt/media/image39.gif" ContentType="image/gif"/>
  <Override PartName="/ppt/media/image46.gif" ContentType="image/gif"/>
  <Override PartName="/ppt/media/image26.jpeg" ContentType="image/jpeg"/>
  <Override PartName="/ppt/media/image24.gif" ContentType="image/gif"/>
  <Override PartName="/ppt/media/image32.jpeg" ContentType="image/jpeg"/>
  <Override PartName="/ppt/media/image10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37.gif" ContentType="image/gif"/>
  <Override PartName="/ppt/media/image6.gif" ContentType="image/gif"/>
  <Override PartName="/ppt/media/image36.gif" ContentType="image/gif"/>
  <Override PartName="/ppt/media/image41.gif" ContentType="image/gif"/>
  <Override PartName="/ppt/media/image1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917-7D1E-4B3D-9BB3-32C1AAE8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CC5-2A87-45B8-9C61-6BB468A8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133-CFC7-4EE6-A5F4-EF80FB87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776-7E58-4694-B7E2-F7D25133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5203E-D72E-4D48-87D3-D98C2411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A386F-41BD-4AE6-B915-A17CDB18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8B11B-80CA-43D7-94B8-6D362B6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04389-54EA-46E9-95D7-BC6DDE6B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3444A-52C2-41F9-BFC5-5B95670C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9D06B-04D0-4C60-99FC-69E66D0C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EB6C9-AA8E-4564-83A1-30724475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32F-FA55-49CB-A581-0F02C90B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3A632-BA73-4682-9819-6020643E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27234-7CF8-4A67-96E8-7D3A24B6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0F4CC-EA5A-4542-BCB2-10FA99EE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71D3C-DDF9-49F3-8C78-D9DC68E8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AEB92-57CF-4321-B363-2AE9E9F5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DAB-50AB-4B54-9FCB-2AEDE692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AD5-A39D-48E5-B937-F2767ED5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63A-DE4F-40A6-867B-92893ED0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C43-EE8B-4D58-A8B1-008330C2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30F-19D5-4523-A187-9B583E39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95E-6EDC-4807-97A8-A0E906F2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48E-F295-49CD-AD6B-F2A5F9EB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BF00-DDA0-4CA4-8012-0779D927D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496B-3A2D-4E6A-AC12-D5C5434F81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image" Target="../media/image6.gif"/><Relationship Id="rId6" Type="http://schemas.openxmlformats.org/officeDocument/2006/relationships/image" Target="../media/image15.gi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5797;&#21367;/Module5%20%20%20%20%20%20Cloning.ppt" TargetMode="External"/><Relationship Id="rId3" Type="http://schemas.openxmlformats.org/officeDocument/2006/relationships/hyperlink" Target="file:///&#35797;&#21367;/Module5%20%20%20%20%20%20Cloning.ppt" TargetMode="External"/><Relationship Id="rId4" Type="http://schemas.openxmlformats.org/officeDocument/2006/relationships/hyperlink" Target="file:///&#35797;&#21367;/Module5%20%20%20%20%20%20Cloning.ppt" TargetMode="External"/><Relationship Id="rId5" Type="http://schemas.openxmlformats.org/officeDocument/2006/relationships/hyperlink" Target="file:///&#35797;&#21367;/Module5%20%20%20%20%20%20Cloning.ppt" TargetMode="External"/><Relationship Id="rId6" Type="http://schemas.openxmlformats.org/officeDocument/2006/relationships/image" Target="../media/image21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H104_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350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Module 5 Tim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Unit 1 I get up at seven o’clock.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Unit 2 What’s the time, please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7020000" y="6597720"/>
            <a:ext cx="21240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清晨 班得瑞 迷雾森林..mp3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矩形 9"/>
          <p:cNvSpPr/>
          <p:nvPr/>
        </p:nvSpPr>
        <p:spPr>
          <a:xfrm>
            <a:off x="1928880" y="1143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Tahoma"/>
              </a:rPr>
              <a:t>外研版三年级英语下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361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tv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"/>
          <p:cNvSpPr/>
          <p:nvPr/>
        </p:nvSpPr>
        <p:spPr>
          <a:xfrm>
            <a:off x="2916360" y="0"/>
            <a:ext cx="4537080" cy="1224000"/>
          </a:xfrm>
          <a:prstGeom prst="wedgeRoundRectCallout">
            <a:avLst>
              <a:gd name="adj1" fmla="val -47481"/>
              <a:gd name="adj2" fmla="val 74643"/>
              <a:gd name="adj3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atch TV</a:t>
            </a: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t six</a:t>
            </a: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’clock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2987640" y="4149720"/>
            <a:ext cx="504720" cy="2160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3492360" y="3789000"/>
            <a:ext cx="792360" cy="360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534040" y="4235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4331520" y="3516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20256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707280" y="4437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3492360" y="4076640"/>
            <a:ext cx="71640" cy="7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2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2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aoSc33_1352_200525155741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203640" y="404640"/>
            <a:ext cx="5038560" cy="2519640"/>
          </a:xfrm>
          <a:prstGeom prst="cloudCallout">
            <a:avLst>
              <a:gd name="adj1" fmla="val -40958"/>
              <a:gd name="adj2" fmla="val 10759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269600" y="550800"/>
            <a:ext cx="378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have lunch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at twelve o’cloc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24000" y="549360"/>
            <a:ext cx="2232000" cy="1224000"/>
          </a:xfrm>
          <a:prstGeom prst="rect">
            <a:avLst/>
          </a:prstGeom>
          <a:solidFill>
            <a:srgbClr val="ff66ff">
              <a:alpha val="6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8" descr="clock4"/>
          <p:cNvPicPr/>
          <p:nvPr/>
        </p:nvPicPr>
        <p:blipFill>
          <a:blip r:embed="rId2"/>
          <a:stretch/>
        </p:blipFill>
        <p:spPr>
          <a:xfrm>
            <a:off x="468360" y="765000"/>
            <a:ext cx="18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314" dur="1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051bx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250920" y="4221000"/>
            <a:ext cx="4465440" cy="2303640"/>
          </a:xfrm>
          <a:prstGeom prst="cloudCallout">
            <a:avLst>
              <a:gd name="adj1" fmla="val 61555"/>
              <a:gd name="adj2" fmla="val -6729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971640" y="436572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go to bed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at nine o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oc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524720" y="5373720"/>
            <a:ext cx="863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102,-52)"/>
                                      </p:to>
                                    </p:set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300-7156_m"/>
          <p:cNvPicPr/>
          <p:nvPr/>
        </p:nvPicPr>
        <p:blipFill>
          <a:blip r:embed="rId1"/>
          <a:stretch/>
        </p:blipFill>
        <p:spPr>
          <a:xfrm>
            <a:off x="4844880" y="0"/>
            <a:ext cx="4299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mrwolf_lg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638-CAI978"/>
              </a:rPr>
              <a:t>Game: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844640"/>
            <a:ext cx="4038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2920" y="1916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Tahoma"/>
              </a:rPr>
              <a:t>游戏方法：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A child was chosen as Mr Wolf. He faced a wall and the others started from an opposite wall. As they advanced, they sai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0000"/>
                </a:solidFill>
                <a:latin typeface="434-CAI978"/>
              </a:rPr>
              <a:t>What's the time, Mr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434-CAI978"/>
              </a:rPr>
              <a:t>Wolf?"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 He could answer, </a:t>
            </a:r>
            <a:r>
              <a:rPr b="0" lang="en-US" sz="2800" spc="-1" strike="noStrike">
                <a:solidFill>
                  <a:srgbClr val="ff0000"/>
                </a:solidFill>
                <a:latin typeface="434-CAI978"/>
              </a:rPr>
              <a:t>"One o'clock"</a:t>
            </a:r>
            <a:r>
              <a:rPr b="0" lang="en-US" sz="2800" spc="-1" strike="noStrike">
                <a:solidFill>
                  <a:srgbClr val="33cc33"/>
                </a:solidFill>
                <a:latin typeface="434-CAI978"/>
              </a:rPr>
              <a:t>'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 and the children advanced again and asked the time. He answered again possibly this time, "Four o'clock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This may have occurred several times, but then the wolf would suddenly turn and call out, </a:t>
            </a:r>
            <a:r>
              <a:rPr b="0" lang="en-US" sz="2800" spc="-1" strike="noStrike">
                <a:solidFill>
                  <a:srgbClr val="ff0000"/>
                </a:solidFill>
                <a:latin typeface="434-CAI978"/>
              </a:rPr>
              <a:t>"Dinner time!"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 He rushed after the other children and attempted to grab one. If he succeeded, that child became Mr Wo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Song4537.mp3" descr=""/>
          <p:cNvPicPr/>
          <p:nvPr/>
        </p:nvPicPr>
        <p:blipFill>
          <a:blip r:embed="rId1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23917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ock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点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lf pas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点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6" descr="半圆"/>
          <p:cNvPicPr/>
          <p:nvPr/>
        </p:nvPicPr>
        <p:blipFill>
          <a:blip r:embed="rId1"/>
          <a:stretch/>
        </p:blipFill>
        <p:spPr>
          <a:xfrm>
            <a:off x="539640" y="198900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2010240" y="1989000"/>
            <a:ext cx="15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O’cl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570040" y="41036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389040" y="3429000"/>
            <a:ext cx="10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2742480" y="573408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a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3492360" y="2349360"/>
            <a:ext cx="1079640" cy="3672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728640 h 3672000"/>
              <a:gd name="textAreaBottom" fmla="*/ 241632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3" stAng="-5400000" swAng="5400000"/>
                <a:lnTo>
                  <a:pt x="21600" y="9928"/>
                </a:lnTo>
                <a:arcTo wR="21600" hR="8573" stAng="0" swAng="2898238"/>
                <a:lnTo>
                  <a:pt x="7200" y="21110"/>
                </a:lnTo>
                <a:lnTo>
                  <a:pt x="0" y="17823"/>
                </a:lnTo>
                <a:lnTo>
                  <a:pt x="7200" y="13555"/>
                </a:lnTo>
                <a:lnTo>
                  <a:pt x="7200" y="16655"/>
                </a:lnTo>
                <a:arcTo wR="21600" hR="8573" stAng="2898238" swAng="-2790108"/>
                <a:lnTo>
                  <a:pt x="21532" y="9250"/>
                </a:lnTo>
                <a:arcTo wR="21600" hR="8573" stAng="-108130" swAng="-5291870"/>
                <a:close/>
              </a:path>
              <a:path fill="darkenLess" w="21600" h="21600">
                <a:moveTo>
                  <a:pt x="0" y="0"/>
                </a:moveTo>
                <a:arcTo wR="21600" hR="8573" stAng="-5400000" swAng="5400000"/>
                <a:lnTo>
                  <a:pt x="21600" y="9928"/>
                </a:lnTo>
                <a:arcTo wR="21600" hR="8573" stAng="0" swAng="-108130"/>
                <a:lnTo>
                  <a:pt x="21532" y="9250"/>
                </a:lnTo>
                <a:arcTo wR="21600" hR="8573" stAng="-108130" swAng="-5291870"/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734480" y="573408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a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2401200" y="1341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Tahoma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2478600" y="6237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65 -0.42623 C -0.06388 -0.42021 -0.05607 -0.41628 -0.04808 -0.41397 C -0.04149 -0.40472 -0.04999 -0.41559 -0.04131 -0.40865 C -0.04027 -0.40772 -0.03975 -0.40587 -0.03871 -0.40495 C -0.03159 -0.39778 -0.02187 -0.38899 -0.01336 -0.38552 C -0.01006 -0.3809 -0.00729 -0.37858 -0.00277 -0.3765 C 0.00296 -0.36887 0.00799 -0.36216 0.01598 -0.35893 C 0.01789 -0.34991 0.01928 -0.33881 0.02258 -0.33048 C 0.02518 -0.32401 0.0257 -0.32562 0.02935 -0.31984 C 0.03265 -0.31452 0.03369 -0.30851 0.03733 -0.30365 C 0.03837 -0.29926 0.0415 -0.28099 0.04393 -0.27706 C 0.04497 -0.27544 0.04653 -0.27475 0.04792 -0.27359 C 0.05192 -0.25856 0.04636 -0.27683 0.05192 -0.26457 C 0.054 -0.25971 0.05365 -0.25324 0.05591 -0.24861 C 0.0566 -0.24722 0.05782 -0.24653 0.05869 -0.24514 C 0.06216 -0.23959 0.06494 -0.23057 0.06667 -0.22387 C 0.06615 -0.17761 0.07969 -0.12327 0.0599 -0.08534 C 0.05851 -0.07932 0.0566 -0.07562 0.0533 -0.071 C 0.04983 -0.05759 0.05487 -0.07354 0.04792 -0.06221 C 0.04705 -0.06082 0.04723 -0.05851 0.04653 -0.05689 C 0.04462 -0.0518 0.04289 -0.04672 0.03994 -0.04255 C 0.03629 -0.02891 0.0323 -0.02359 0.02258 -0.01966 C 0.01928 -0.01503 0.0165 -0.01272 0.01199 -0.01064 C 0.00886 -0.00671 0.00417 7.03053E-007 6.11111E-006 7.03053E-007 E">
                                      <p:cBhvr>
                                        <p:cTn id="40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xiangkuang2_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375-CAI978"/>
                <a:ea typeface="幼圆"/>
              </a:rPr>
              <a:t>guess the Chinese meaning AND READ THE SENTENCES: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t’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half pa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e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ahoma"/>
              </a:rPr>
              <a:t>七点</a:t>
            </a: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半</a:t>
            </a:r>
            <a:r>
              <a:rPr b="0" lang="zh-CN" sz="3200" spc="-1" strike="noStrike">
                <a:solidFill>
                  <a:srgbClr val="0000cc"/>
                </a:solidFill>
                <a:latin typeface="Tahoma"/>
              </a:rPr>
              <a:t>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t’s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half past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ele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ahoma"/>
              </a:rPr>
              <a:t>十一点</a:t>
            </a: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半</a:t>
            </a:r>
            <a:r>
              <a:rPr b="0" lang="zh-CN" sz="3200" spc="-1" strike="noStrike">
                <a:solidFill>
                  <a:srgbClr val="0000cc"/>
                </a:solidFill>
                <a:latin typeface="Tahoma"/>
              </a:rPr>
              <a:t>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940360" y="13255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6732720" y="37735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300720" y="56451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Line 9"/>
          <p:cNvSpPr/>
          <p:nvPr/>
        </p:nvSpPr>
        <p:spPr>
          <a:xfrm flipH="1">
            <a:off x="5940000" y="3789360"/>
            <a:ext cx="792360" cy="93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6732720" y="422100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Line 11"/>
          <p:cNvSpPr/>
          <p:nvPr/>
        </p:nvSpPr>
        <p:spPr>
          <a:xfrm>
            <a:off x="6732720" y="3860640"/>
            <a:ext cx="0" cy="1584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2" descr="_B5L_A7_C0_BA_B5_AE_C9_C4_C1_28_A4p_29"/>
          <p:cNvPicPr/>
          <p:nvPr/>
        </p:nvPicPr>
        <p:blipFill>
          <a:blip r:embed="rId2"/>
          <a:stretch/>
        </p:blipFill>
        <p:spPr>
          <a:xfrm>
            <a:off x="4859280" y="1628640"/>
            <a:ext cx="4033800" cy="4969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web10"/>
          <p:cNvPicPr/>
          <p:nvPr/>
        </p:nvPicPr>
        <p:blipFill>
          <a:blip r:embed="rId3"/>
          <a:stretch/>
        </p:blipFill>
        <p:spPr>
          <a:xfrm>
            <a:off x="6516720" y="55166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4"/>
          <p:cNvSpPr/>
          <p:nvPr/>
        </p:nvSpPr>
        <p:spPr>
          <a:xfrm rot="1392000">
            <a:off x="6458040" y="4508640"/>
            <a:ext cx="488880" cy="1077840"/>
          </a:xfrm>
          <a:prstGeom prst="lightningBol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15"/>
          <p:cNvSpPr/>
          <p:nvPr/>
        </p:nvSpPr>
        <p:spPr>
          <a:xfrm rot="3597000">
            <a:off x="6369480" y="4510440"/>
            <a:ext cx="288720" cy="712800"/>
          </a:xfrm>
          <a:prstGeom prst="lightningBol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16"/>
          <p:cNvSpPr/>
          <p:nvPr/>
        </p:nvSpPr>
        <p:spPr>
          <a:xfrm rot="10297800">
            <a:off x="6481080" y="4126680"/>
            <a:ext cx="361800" cy="576360"/>
          </a:xfrm>
          <a:prstGeom prst="lightningBol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516720" y="5445000"/>
            <a:ext cx="3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5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043bq"/>
          <p:cNvPicPr/>
          <p:nvPr/>
        </p:nvPicPr>
        <p:blipFill>
          <a:blip r:embed="rId2"/>
          <a:stretch/>
        </p:blipFill>
        <p:spPr>
          <a:xfrm>
            <a:off x="2268360" y="4797360"/>
            <a:ext cx="1295640" cy="2060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222"/>
          <p:cNvPicPr/>
          <p:nvPr/>
        </p:nvPicPr>
        <p:blipFill>
          <a:blip r:embed="rId3"/>
          <a:stretch/>
        </p:blipFill>
        <p:spPr>
          <a:xfrm rot="537000">
            <a:off x="6279840" y="4294080"/>
            <a:ext cx="2886120" cy="25653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7"/>
          <p:cNvSpPr/>
          <p:nvPr/>
        </p:nvSpPr>
        <p:spPr>
          <a:xfrm>
            <a:off x="2916360" y="2708280"/>
            <a:ext cx="3600360" cy="1224000"/>
          </a:xfrm>
          <a:prstGeom prst="wedgeEllipseCallout">
            <a:avLst>
              <a:gd name="adj1" fmla="val -43430"/>
              <a:gd name="adj2" fmla="val 151814"/>
            </a:avLst>
          </a:prstGeom>
          <a:solidFill>
            <a:srgbClr val="ffff99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8"/>
          <p:cNvSpPr/>
          <p:nvPr/>
        </p:nvSpPr>
        <p:spPr>
          <a:xfrm rot="16200000">
            <a:off x="4545000" y="3960720"/>
            <a:ext cx="1278000" cy="2951280"/>
          </a:xfrm>
          <a:prstGeom prst="wedgeEllipseCallout">
            <a:avLst>
              <a:gd name="adj1" fmla="val 4657"/>
              <a:gd name="adj2" fmla="val 58712"/>
            </a:avLst>
          </a:prstGeom>
          <a:solidFill>
            <a:srgbClr val="ccffcc">
              <a:alpha val="7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3875040" y="4941720"/>
            <a:ext cx="250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What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s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time, plea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880000" y="306864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It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s half past sev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11"/>
          <p:cNvSpPr/>
          <p:nvPr/>
        </p:nvSpPr>
        <p:spPr>
          <a:xfrm>
            <a:off x="5867280" y="2133720"/>
            <a:ext cx="3276720" cy="1366560"/>
          </a:xfrm>
          <a:prstGeom prst="cloudCallout">
            <a:avLst>
              <a:gd name="adj1" fmla="val -4699"/>
              <a:gd name="adj2" fmla="val 107375"/>
            </a:avLst>
          </a:prstGeom>
          <a:solidFill>
            <a:srgbClr val="ff99cc">
              <a:alpha val="8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6084720" y="234936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 have breakfa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t  half past seve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13" descr="153fw"/>
          <p:cNvPicPr/>
          <p:nvPr/>
        </p:nvPicPr>
        <p:blipFill>
          <a:blip r:embed="rId4"/>
          <a:stretch/>
        </p:blipFill>
        <p:spPr>
          <a:xfrm>
            <a:off x="7715160" y="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2.58094E-006 C -0.00608 -0.00809 -0.01077 -0.01063 -0.01876 -0.01595 C -0.02258 -0.0185 -0.03074 -0.02127 -0.03074 -0.02127 C -0.04185 -0.02058 -0.05296 -0.02058 -0.06407 -0.01942 C -0.07119 -0.01873 -0.07848 -0.01271 -0.08542 -0.01063 C -0.09046 -0.00346 -0.08525 -0.00948 -0.09462 -0.00531 C -0.1033 -0.00138 -0.10139 0.00116 -0.11199 0.00371 C -0.11546 0.00602 -0.11945 0.00648 -0.12275 0.00902 C -0.12431 0.01018 -0.12518 0.01296 -0.12674 0.01434 C -0.12952 0.01689 -0.13699 0.02267 -0.13994 0.02498 C -0.1441 0.02822 -0.15521 0.02822 -0.1573 0.02845 C -0.18889 0.02799 -0.22049 0.02799 -0.25209 0.02683 C -0.2606 0.0266 -0.27171 0.02059 -0.28004 0.01781 C -0.30452 0.00972 -0.329 0.00324 -0.3533 -0.00531 C -0.36737 -0.00416 -0.37396 -0.00462 -0.38542 -2.58094E-006 C -0.39601 -0.00046 -0.40678 -2.58094E-006 -0.41737 -0.00161 C -0.42275 -0.00231 -0.42553 -0.01086 -0.42935 -0.01595 C -0.43074 -0.0178 -0.43334 -0.02127 -0.43334 -0.02127 E">
                                      <p:cBhvr>
                                        <p:cTn id="50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aoSc33_1352_200525155824621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999"/>
          <p:cNvPicPr/>
          <p:nvPr/>
        </p:nvPicPr>
        <p:blipFill>
          <a:blip r:embed="rId2"/>
          <a:stretch/>
        </p:blipFill>
        <p:spPr>
          <a:xfrm rot="21271800">
            <a:off x="-180720" y="620640"/>
            <a:ext cx="2486160" cy="2183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007ag"/>
          <p:cNvPicPr/>
          <p:nvPr/>
        </p:nvPicPr>
        <p:blipFill>
          <a:blip r:embed="rId3"/>
          <a:stretch/>
        </p:blipFill>
        <p:spPr>
          <a:xfrm rot="21199200">
            <a:off x="4066920" y="4869000"/>
            <a:ext cx="1368360" cy="487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07ag"/>
          <p:cNvPicPr/>
          <p:nvPr/>
        </p:nvPicPr>
        <p:blipFill>
          <a:blip r:embed="rId4"/>
          <a:stretch/>
        </p:blipFill>
        <p:spPr>
          <a:xfrm rot="19781400">
            <a:off x="1979640" y="3357360"/>
            <a:ext cx="1368360" cy="487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007ag"/>
          <p:cNvPicPr/>
          <p:nvPr/>
        </p:nvPicPr>
        <p:blipFill>
          <a:blip r:embed="rId5"/>
          <a:stretch/>
        </p:blipFill>
        <p:spPr>
          <a:xfrm rot="20747400">
            <a:off x="3348000" y="2491920"/>
            <a:ext cx="1368360" cy="487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007ag"/>
          <p:cNvPicPr/>
          <p:nvPr/>
        </p:nvPicPr>
        <p:blipFill>
          <a:blip r:embed="rId6"/>
          <a:stretch/>
        </p:blipFill>
        <p:spPr>
          <a:xfrm rot="20450400">
            <a:off x="4642920" y="3789000"/>
            <a:ext cx="1368720" cy="4874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305-CAI978"/>
                <a:ea typeface="359-CAI978"/>
              </a:rPr>
              <a:t>Look at the pictures and make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305-CAI978"/>
                <a:ea typeface="359-CAI978"/>
              </a:rPr>
              <a:t>          a  dialogue.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C 0.07917 -0.00162 0.15851 -0.00301 0.19861 -0.02129 C 0.23871 -0.03958 0.21163 -0.08889 0.2408 -0.11064 C 0.26996 -0.13194 0.32917 -0.13333 0.37361 -0.15092 C 0.41805 -0.16851 0.46233 -0.20601 0.50781 -0.21597 C 0.5533 -0.22569 0.62448 -0.21296 0.64722 -0.21064 C 0.66996 -0.20787 0.65729 -0.20393 0.64462 -0.2 E">
                                      <p:cBhvr>
                                        <p:cTn id="51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C 0.00417 -0.01806 0.02205 -0.02269 0.0342 -0.02639 C 0.08316 -0.02454 0.06841 -0.02778 0.0974 -0.01597 C 0.10903 -0.00463 0.13229 -0.00764 0.14341 -0.00718 C 0.15 -0.00533 0.1566 -0.00371 0.1632 -0.00185 C 0.16979 -0.00255 0.17639 -0.00185 0.18282 -0.00371 C 0.1849 -0.0044 0.18629 -0.00741 0.1882 -0.0088 C 0.18907 -0.00949 0.19757 -0.01204 0.19861 -0.01227 C 0.20434 -0.01783 0.21025 -0.02593 0.21702 -0.02824 C 0.22726 -0.03727 0.23941 -0.0419 0.25122 -0.0456 C 0.2665 -0.04329 0.27778 -0.04028 0.29202 -0.03519 C 0.30122 -0.02732 0.29705 -0.02963 0.30382 -0.02639 C 0.3092 -0.01921 0.31789 -0.01343 0.325 -0.0088 C 0.33073 -0.00116 0.34167 0.00486 0.34601 0.01227 C 0.35087 0.0206 0.34792 0.01829 0.35382 0.02106 C 0.35955 0.02824 0.36615 0.0368 0.37361 0.04028 C 0.38073 0.05486 0.37136 0.03819 0.38021 0.04722 C 0.38507 0.05231 0.3882 0.06042 0.39341 0.06481 C 0.40052 0.07083 0.40712 0.07639 0.4132 0.08403 C 0.46059 0.08241 0.45174 0.0919 0.475 0.07176 C 0.47813 0.06551 0.48195 0.06227 0.48542 0.05602 C 0.48733 0.04884 0.49184 0.04236 0.49601 0.0368 E">
                                      <p:cBhvr>
                                        <p:cTn id="52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5.18519E-006 L 0.14167 0.01065 E">
                                      <p:cBhvr>
                                        <p:cTn id="52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46945E-018 L 0.19688 0.03148 E">
                                      <p:cBhvr>
                                        <p:cTn id="528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025-CAI978"/>
              </a:rPr>
              <a:t>Now let's try it!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934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934-CAI978"/>
              </a:rPr>
              <a:t>12: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934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934-CAI978"/>
              </a:rPr>
              <a:t>4:3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934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934-CAI978"/>
              </a:rPr>
              <a:t>7: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934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934-CAI978"/>
              </a:rPr>
              <a:t>9:3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79640" y="1844640"/>
            <a:ext cx="67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728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seven</a:t>
            </a:r>
            <a:r>
              <a:rPr b="0" lang="en-US" sz="4000" spc="-1" strike="noStrike">
                <a:solidFill>
                  <a:srgbClr val="ff0000"/>
                </a:solidFill>
                <a:latin typeface="728-CAI978"/>
                <a:ea typeface="418-CAI978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728-CAI978"/>
                <a:ea typeface="418-CAI978"/>
              </a:rPr>
              <a:t>o’clock</a:t>
            </a: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     have lun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728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728-CAI978"/>
                <a:ea typeface="418-CAI978"/>
              </a:rPr>
              <a:t>half past</a:t>
            </a:r>
            <a:r>
              <a:rPr b="0" lang="en-US" sz="4000" spc="-1" strike="noStrike">
                <a:solidFill>
                  <a:srgbClr val="ff0000"/>
                </a:solidFill>
                <a:latin typeface="728-CAI978"/>
                <a:ea typeface="418-CAI978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nine     go ho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728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728-CAI978"/>
                <a:ea typeface="418-CAI978"/>
              </a:rPr>
              <a:t>half past</a:t>
            </a:r>
            <a:r>
              <a:rPr b="0" lang="en-US" sz="4000" spc="-1" strike="noStrike">
                <a:solidFill>
                  <a:srgbClr val="ff0000"/>
                </a:solidFill>
                <a:latin typeface="728-CAI978"/>
                <a:ea typeface="418-CAI978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four      get up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728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twelve</a:t>
            </a:r>
            <a:r>
              <a:rPr b="0" lang="en-US" sz="4000" spc="-1" strike="noStrike">
                <a:solidFill>
                  <a:srgbClr val="ff0000"/>
                </a:solidFill>
                <a:latin typeface="728-CAI978"/>
                <a:ea typeface="418-CAI978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728-CAI978"/>
                <a:ea typeface="418-CAI978"/>
              </a:rPr>
              <a:t>o’clock</a:t>
            </a:r>
            <a:r>
              <a:rPr b="0" lang="en-US" sz="4000" spc="-1" strike="noStrike">
                <a:solidFill>
                  <a:srgbClr val="0000cc"/>
                </a:solidFill>
                <a:latin typeface="728-CAI978"/>
                <a:ea typeface="418-CAI978"/>
              </a:rPr>
              <a:t>     go to b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1547640" y="3068640"/>
            <a:ext cx="648000" cy="5047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692360" y="2421000"/>
            <a:ext cx="503280" cy="1871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7"/>
          <p:cNvSpPr/>
          <p:nvPr/>
        </p:nvSpPr>
        <p:spPr>
          <a:xfrm flipV="1">
            <a:off x="1619280" y="2276640"/>
            <a:ext cx="576360" cy="1295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 flipV="1">
            <a:off x="1547640" y="2997360"/>
            <a:ext cx="649440" cy="15127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9" descr="42005325163710"/>
          <p:cNvPicPr/>
          <p:nvPr/>
        </p:nvPicPr>
        <p:blipFill>
          <a:blip r:embed="rId1"/>
          <a:stretch/>
        </p:blipFill>
        <p:spPr>
          <a:xfrm>
            <a:off x="5508720" y="-963720"/>
            <a:ext cx="2036520" cy="2443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2463840" y="516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wonderland.mp3" descr=""/>
          <p:cNvPicPr/>
          <p:nvPr/>
        </p:nvPicPr>
        <p:blipFill>
          <a:blip r:embed="rId2"/>
          <a:stretch/>
        </p:blipFill>
        <p:spPr>
          <a:xfrm>
            <a:off x="7524720" y="112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0" name="Line 12"/>
          <p:cNvSpPr/>
          <p:nvPr/>
        </p:nvSpPr>
        <p:spPr>
          <a:xfrm flipV="1">
            <a:off x="5364000" y="2997360"/>
            <a:ext cx="720720" cy="7920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13"/>
          <p:cNvSpPr/>
          <p:nvPr/>
        </p:nvSpPr>
        <p:spPr>
          <a:xfrm flipV="1">
            <a:off x="5580000" y="2349000"/>
            <a:ext cx="432000" cy="2087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5364000" y="3068640"/>
            <a:ext cx="792360" cy="12970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5435640" y="2276640"/>
            <a:ext cx="792000" cy="12967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66c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0066"/>
                </a:solidFill>
                <a:latin typeface="902-CAI978"/>
              </a:rPr>
              <a:t>Can you read these numbers?</a:t>
            </a:r>
            <a:br>
              <a:rPr sz="4800"/>
            </a:br>
            <a:r>
              <a:rPr b="0" lang="en-US" sz="48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Gungsuh"/>
              </a:rPr>
              <a:t>             </a:t>
            </a:r>
            <a:r>
              <a:rPr b="1" lang="en-US" sz="6000" spc="-1" strike="noStrike">
                <a:solidFill>
                  <a:srgbClr val="ff0000"/>
                </a:solidFill>
                <a:latin typeface="633-CAI978"/>
              </a:rPr>
              <a:t>Very  good  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SzPct val="120000"/>
              <a:buFont typeface="633-CAI97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332000" y="620640"/>
            <a:ext cx="71280" cy="7923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ag00315_"/>
          <p:cNvPicPr/>
          <p:nvPr/>
        </p:nvPicPr>
        <p:blipFill>
          <a:blip r:embed="rId3"/>
          <a:stretch/>
        </p:blipFill>
        <p:spPr>
          <a:xfrm>
            <a:off x="0" y="4986360"/>
            <a:ext cx="1658880" cy="18716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8"/>
          <p:cNvSpPr/>
          <p:nvPr/>
        </p:nvSpPr>
        <p:spPr>
          <a:xfrm>
            <a:off x="2556000" y="2421000"/>
            <a:ext cx="4608360" cy="1439640"/>
          </a:xfrm>
          <a:prstGeom prst="wedgeEllipseCallout">
            <a:avLst>
              <a:gd name="adj1" fmla="val -70152"/>
              <a:gd name="adj2" fmla="val 159041"/>
            </a:avLst>
          </a:prstGeom>
          <a:solidFill>
            <a:srgbClr val="ffff99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wonderland.mp3" descr=""/>
          <p:cNvPicPr/>
          <p:nvPr/>
        </p:nvPicPr>
        <p:blipFill>
          <a:blip r:embed="rId4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0669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xsmb1609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ahoma"/>
              </a:rPr>
              <a:t>HOMEWORK: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ahoma"/>
                <a:ea typeface="华文新魏"/>
              </a:rPr>
              <a:t>1.</a:t>
            </a:r>
            <a:r>
              <a:rPr b="0" lang="zh-CN" sz="4400" spc="-1" strike="noStrike">
                <a:solidFill>
                  <a:srgbClr val="ff66cc"/>
                </a:solidFill>
                <a:latin typeface="Tahoma"/>
                <a:ea typeface="华文新魏"/>
              </a:rPr>
              <a:t>搜集关于时间的谚语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ahoma"/>
                <a:ea typeface="华文新魏"/>
              </a:rPr>
              <a:t>2.</a:t>
            </a:r>
            <a:r>
              <a:rPr b="0" lang="zh-CN" sz="4400" spc="-1" strike="noStrike">
                <a:solidFill>
                  <a:srgbClr val="ff66cc"/>
                </a:solidFill>
                <a:latin typeface="Tahoma"/>
                <a:ea typeface="华文新魏"/>
              </a:rPr>
              <a:t>和朋友说说如何珍惜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Tahoma"/>
                <a:ea typeface="华文新魏"/>
              </a:rPr>
              <a:t>时间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022"/>
          <p:cNvPicPr/>
          <p:nvPr/>
        </p:nvPicPr>
        <p:blipFill>
          <a:blip r:embed="rId2"/>
          <a:srcRect l="0" t="0" r="0" b="42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5840" y="2071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125-CAI978"/>
              </a:rPr>
              <a:t>Thank you,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125-CAI978"/>
              </a:rPr>
              <a:t>       </a:t>
            </a:r>
            <a:r>
              <a:rPr b="0" lang="en-US" sz="8000" spc="-1" strike="noStrike">
                <a:solidFill>
                  <a:srgbClr val="ffffff"/>
                </a:solidFill>
                <a:latin typeface="125-CAI978"/>
              </a:rPr>
              <a:t>bye-bye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5" descr="j0234693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3284640"/>
          </a:xfrm>
          <a:prstGeom prst="rect">
            <a:avLst/>
          </a:prstGeom>
          <a:ln w="0">
            <a:noFill/>
          </a:ln>
        </p:spPr>
      </p:pic>
      <p:pic>
        <p:nvPicPr>
          <p:cNvPr id="281" name="英语儿歌专辑 You are my sunshine.mp3" descr=""/>
          <p:cNvPicPr/>
          <p:nvPr/>
        </p:nvPicPr>
        <p:blipFill>
          <a:blip r:embed="rId4"/>
          <a:stretch/>
        </p:blipFill>
        <p:spPr>
          <a:xfrm>
            <a:off x="867564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5" dur="132729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810-CAI978"/>
                <a:ea typeface="810-CAI978"/>
              </a:rPr>
              <a:t>Where can you see these numbers?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Verdana"/>
              </a:rPr>
              <a:t>From a calendar</a:t>
            </a:r>
            <a:r>
              <a:rPr b="1" i="1" lang="zh-CN" sz="2800" spc="-1" strike="noStrike">
                <a:solidFill>
                  <a:srgbClr val="00cc00"/>
                </a:solidFill>
                <a:latin typeface="Tahoma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a calculator</a:t>
            </a:r>
            <a:r>
              <a:rPr b="1" lang="en-US" sz="3200" spc="-1" strike="noStrike">
                <a:solidFill>
                  <a:srgbClr val="00cc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a mobile phone</a:t>
            </a:r>
            <a:r>
              <a:rPr b="1" lang="en-US" sz="3200" spc="-1" strike="noStrike">
                <a:solidFill>
                  <a:srgbClr val="00cc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        </a:t>
            </a: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a clock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2c01_1024_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924360" y="1916280"/>
            <a:ext cx="1584360" cy="1388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1091070200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508720" y="2781360"/>
            <a:ext cx="1282680" cy="144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2100"/>
          <p:cNvPicPr/>
          <p:nvPr/>
        </p:nvPicPr>
        <p:blipFill>
          <a:blip r:embed="rId4"/>
          <a:stretch/>
        </p:blipFill>
        <p:spPr>
          <a:xfrm>
            <a:off x="6804000" y="3789360"/>
            <a:ext cx="1440000" cy="135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066cn"/>
          <p:cNvPicPr/>
          <p:nvPr/>
        </p:nvPicPr>
        <p:blipFill>
          <a:blip r:embed="rId5"/>
          <a:stretch/>
        </p:blipFill>
        <p:spPr>
          <a:xfrm>
            <a:off x="4643280" y="5013360"/>
            <a:ext cx="1836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80" dur="1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gkt2_036"/>
          <p:cNvPicPr/>
          <p:nvPr/>
        </p:nvPicPr>
        <p:blipFill>
          <a:blip r:embed="rId2"/>
          <a:srcRect l="0" t="0" r="0" b="2928"/>
          <a:stretch/>
        </p:blipFill>
        <p:spPr>
          <a:xfrm>
            <a:off x="-252360" y="-243000"/>
            <a:ext cx="9753480" cy="7101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Look at this clock    , can you make it at seven o’clock?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077-CAI978"/>
              </a:rPr>
              <a:t>It’s </a:t>
            </a:r>
            <a:r>
              <a:rPr b="1" i="1" lang="en-US" sz="3600" spc="-1" strike="noStrike" u="sng">
                <a:solidFill>
                  <a:srgbClr val="ff6600"/>
                </a:solidFill>
                <a:uFillTx/>
                <a:latin typeface="077-CAI978"/>
              </a:rPr>
              <a:t>seven o’clock</a:t>
            </a:r>
            <a:r>
              <a:rPr b="1" lang="en-US" sz="3600" spc="-1" strike="noStrike">
                <a:solidFill>
                  <a:srgbClr val="ff6600"/>
                </a:solidFill>
                <a:latin typeface="077-CAI978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What’s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plea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077-CAI978"/>
              </a:rPr>
              <a:t>:It’s </a:t>
            </a:r>
            <a:r>
              <a:rPr b="1" i="1" lang="en-US" sz="3600" spc="-1" strike="noStrike" u="sng">
                <a:solidFill>
                  <a:srgbClr val="ff6600"/>
                </a:solidFill>
                <a:uFillTx/>
                <a:latin typeface="077-CAI978"/>
              </a:rPr>
              <a:t>four o’clock</a:t>
            </a:r>
            <a:r>
              <a:rPr b="1" lang="en-US" sz="3600" spc="-1" strike="noStrike">
                <a:solidFill>
                  <a:srgbClr val="ff6600"/>
                </a:solidFill>
                <a:latin typeface="077-CAI978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4356000" y="692280"/>
            <a:ext cx="71640" cy="72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7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332000" y="263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276720" y="2843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987640" y="313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70036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124000" y="4356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476360" y="457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84360" y="428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79280" y="3780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0" y="3203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250920" y="241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755640" y="1979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03280" y="328464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20" descr="clock1"/>
          <p:cNvPicPr/>
          <p:nvPr/>
        </p:nvPicPr>
        <p:blipFill>
          <a:blip r:embed="rId3"/>
          <a:stretch/>
        </p:blipFill>
        <p:spPr>
          <a:xfrm>
            <a:off x="4356000" y="404640"/>
            <a:ext cx="700200" cy="981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1"/>
          <p:cNvSpPr/>
          <p:nvPr/>
        </p:nvSpPr>
        <p:spPr>
          <a:xfrm>
            <a:off x="356400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2" descr="1PL4873"/>
          <p:cNvPicPr/>
          <p:nvPr/>
        </p:nvPicPr>
        <p:blipFill>
          <a:blip r:embed="rId4"/>
          <a:stretch/>
        </p:blipFill>
        <p:spPr>
          <a:xfrm>
            <a:off x="250920" y="2060640"/>
            <a:ext cx="3429000" cy="3502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3"/>
          <p:cNvSpPr/>
          <p:nvPr/>
        </p:nvSpPr>
        <p:spPr>
          <a:xfrm>
            <a:off x="3492360" y="2340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3492360" y="4356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441792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1713960" y="1989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1703880" y="515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262440" y="371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3359520" y="35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921600" y="2205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2567520" y="220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3143520" y="285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2567520" y="501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3143520" y="4437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406800" y="429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91152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272520" y="2924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38"/>
          <p:cNvSpPr/>
          <p:nvPr/>
        </p:nvSpPr>
        <p:spPr>
          <a:xfrm flipH="1">
            <a:off x="1402920" y="3789360"/>
            <a:ext cx="576360" cy="792000"/>
          </a:xfrm>
          <a:prstGeom prst="line">
            <a:avLst/>
          </a:prstGeom>
          <a:ln w="76320">
            <a:solidFill>
              <a:srgbClr val="cc0066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1979640" y="2420640"/>
            <a:ext cx="0" cy="1366920"/>
          </a:xfrm>
          <a:prstGeom prst="line">
            <a:avLst/>
          </a:prstGeom>
          <a:ln w="76320">
            <a:solidFill>
              <a:srgbClr val="cc0066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0" descr="ag00315_"/>
          <p:cNvPicPr/>
          <p:nvPr/>
        </p:nvPicPr>
        <p:blipFill>
          <a:blip r:embed="rId5"/>
          <a:stretch/>
        </p:blipFill>
        <p:spPr>
          <a:xfrm>
            <a:off x="3851280" y="3141720"/>
            <a:ext cx="719280" cy="81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" descr="ag00317_"/>
          <p:cNvPicPr/>
          <p:nvPr/>
        </p:nvPicPr>
        <p:blipFill>
          <a:blip r:embed="rId6"/>
          <a:stretch/>
        </p:blipFill>
        <p:spPr>
          <a:xfrm>
            <a:off x="3780000" y="3860640"/>
            <a:ext cx="784080" cy="10083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42"/>
          <p:cNvSpPr/>
          <p:nvPr/>
        </p:nvSpPr>
        <p:spPr>
          <a:xfrm>
            <a:off x="4427640" y="3213000"/>
            <a:ext cx="288720" cy="216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43"/>
          <p:cNvSpPr/>
          <p:nvPr/>
        </p:nvSpPr>
        <p:spPr>
          <a:xfrm>
            <a:off x="4500720" y="4221000"/>
            <a:ext cx="287280" cy="216000"/>
          </a:xfrm>
          <a:prstGeom prst="wedgeEllipseCallout">
            <a:avLst>
              <a:gd name="adj1" fmla="val -45027"/>
              <a:gd name="adj2" fmla="val 6985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1979640" y="3789360"/>
            <a:ext cx="863640" cy="576360"/>
          </a:xfrm>
          <a:prstGeom prst="line">
            <a:avLst/>
          </a:prstGeom>
          <a:ln w="76320">
            <a:solidFill>
              <a:srgbClr val="cc0066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1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1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1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1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1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netease_missanya1024"/>
          <p:cNvPicPr/>
          <p:nvPr/>
        </p:nvPicPr>
        <p:blipFill>
          <a:blip r:embed="rId1"/>
          <a:srcRect l="3126" t="7032" r="3126" b="-7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创意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ction: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一同学模仿钟表走的声音并配合动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表示点钟，其他同学用英语抢答时间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最先抢答正确的上台继续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例：</a:t>
            </a: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A: LISTEN TO THE CLOCK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tick tock, tick tock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拍三下手</a:t>
            </a: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点三下头</a:t>
            </a: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双手成</a:t>
            </a: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90</a:t>
            </a: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度指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375-CAI978"/>
                <a:ea typeface="幼圆"/>
              </a:rPr>
              <a:t>三点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375-CAI978"/>
                <a:ea typeface="幼圆"/>
              </a:rPr>
              <a:t>THE OTHERS: IT’S THREE O’CLO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60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1408372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572-CAI978"/>
              </a:rPr>
              <a:t>Clocks</a:t>
            </a:r>
            <a:r>
              <a:rPr b="0" lang="en-US" sz="4000" spc="-1" strike="noStrike">
                <a:solidFill>
                  <a:srgbClr val="cc0066"/>
                </a:solidFill>
                <a:latin typeface="572-CAI978"/>
              </a:rPr>
              <a:t> </a:t>
            </a:r>
            <a:r>
              <a:rPr b="0" lang="en-US" sz="4400" spc="-1" strike="noStrike">
                <a:solidFill>
                  <a:srgbClr val="cc0066"/>
                </a:solidFill>
                <a:latin typeface="572-CAI978"/>
              </a:rPr>
              <a:t>measure time.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572-CAI978"/>
              </a:rPr>
              <a:t>Liste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572-CAI978"/>
              </a:rPr>
              <a:t>Time is fly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572-CAI978"/>
              </a:rPr>
              <a:t>我们该如何珍惜</a:t>
            </a:r>
            <a:r>
              <a:rPr b="0" lang="en-US" sz="3200" spc="-1" strike="noStrike">
                <a:solidFill>
                  <a:srgbClr val="cc0066"/>
                </a:solidFill>
                <a:latin typeface="572-CAI978"/>
              </a:rPr>
              <a:t>time</a:t>
            </a:r>
            <a:r>
              <a:rPr b="0" lang="zh-CN" sz="3200" spc="-1" strike="noStrike">
                <a:solidFill>
                  <a:srgbClr val="cc0066"/>
                </a:solidFill>
                <a:latin typeface="572-CAI978"/>
              </a:rPr>
              <a:t>呢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572-CAI978"/>
              </a:rPr>
              <a:t>想想我们一天中在什么时间都做了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202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11a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4427640" y="0"/>
            <a:ext cx="4249800" cy="2421000"/>
          </a:xfrm>
          <a:prstGeom prst="cloudCallout">
            <a:avLst>
              <a:gd name="adj1" fmla="val -43763"/>
              <a:gd name="adj2" fmla="val 63703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t up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t seven o’cloc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059280" y="404640"/>
            <a:ext cx="1368360" cy="576360"/>
          </a:xfrm>
          <a:prstGeom prst="rect">
            <a:avLst/>
          </a:prstGeom>
          <a:solidFill>
            <a:srgbClr val="ff99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HaoSc31_1294_200525151157580"/>
          <p:cNvPicPr/>
          <p:nvPr/>
        </p:nvPicPr>
        <p:blipFill>
          <a:blip r:embed="rId2"/>
          <a:stretch/>
        </p:blipFill>
        <p:spPr>
          <a:xfrm>
            <a:off x="3059280" y="476280"/>
            <a:ext cx="475920" cy="476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HaoSc31_1294_200525151153734"/>
          <p:cNvPicPr/>
          <p:nvPr/>
        </p:nvPicPr>
        <p:blipFill>
          <a:blip r:embed="rId3"/>
          <a:stretch/>
        </p:blipFill>
        <p:spPr>
          <a:xfrm>
            <a:off x="3924360" y="47628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HaoSc31_1294_200525151153734"/>
          <p:cNvPicPr/>
          <p:nvPr/>
        </p:nvPicPr>
        <p:blipFill>
          <a:blip r:embed="rId4"/>
          <a:stretch/>
        </p:blipFill>
        <p:spPr>
          <a:xfrm>
            <a:off x="3564000" y="476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444840" y="260280"/>
            <a:ext cx="3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3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2"/>
              </a:rPr>
              <a:t>..\..\</a:t>
            </a:r>
            <a:r>
              <a:rPr b="0" lang="zh-CN" sz="2800" spc="-1" strike="noStrike" u="sng">
                <a:solidFill>
                  <a:srgbClr val="663300"/>
                </a:solidFill>
                <a:uFillTx/>
                <a:latin typeface="Tahoma"/>
                <a:hlinkClick r:id="rId3"/>
              </a:rPr>
              <a:t>试卷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4"/>
              </a:rPr>
              <a:t>\Module5     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5"/>
              </a:rPr>
              <a:t>Cloning.p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840200" y="134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42200" y="10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北苑小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a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>
            <a:off x="4716360" y="3645000"/>
            <a:ext cx="3456000" cy="1800000"/>
          </a:xfrm>
          <a:prstGeom prst="wedgeEllipseCallout">
            <a:avLst>
              <a:gd name="adj1" fmla="val -61439"/>
              <a:gd name="adj2" fmla="val 34393"/>
            </a:avLst>
          </a:prstGeom>
          <a:solidFill>
            <a:srgbClr val="ff66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572000" y="11444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541760" y="1104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北苑小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500720" y="3559320"/>
            <a:ext cx="345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o h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t four 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oc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11" descr="clock7"/>
          <p:cNvPicPr/>
          <p:nvPr/>
        </p:nvPicPr>
        <p:blipFill>
          <a:blip r:embed="rId7"/>
          <a:stretch/>
        </p:blipFill>
        <p:spPr>
          <a:xfrm>
            <a:off x="0" y="0"/>
            <a:ext cx="24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a0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4284720" y="1197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北苑小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6084720" y="2708280"/>
            <a:ext cx="3205440" cy="2449440"/>
          </a:xfrm>
          <a:prstGeom prst="wedgeEllipseCallout">
            <a:avLst>
              <a:gd name="adj1" fmla="val -57527"/>
              <a:gd name="adj2" fmla="val 41703"/>
            </a:avLst>
          </a:prstGeom>
          <a:solidFill>
            <a:srgbClr val="ff0000">
              <a:alpha val="6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 rot="16200000">
            <a:off x="5472000" y="533700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427640" y="537372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9" descr="HaoSc4_190_20052410344734"/>
          <p:cNvPicPr/>
          <p:nvPr/>
        </p:nvPicPr>
        <p:blipFill>
          <a:blip r:embed="rId2"/>
          <a:stretch/>
        </p:blipFill>
        <p:spPr>
          <a:xfrm>
            <a:off x="5076720" y="54936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6300360" y="2852640"/>
            <a:ext cx="31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o to schoo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eight 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1" descr="AP082_L"/>
          <p:cNvPicPr/>
          <p:nvPr/>
        </p:nvPicPr>
        <p:blipFill>
          <a:blip r:embed="rId3"/>
          <a:srcRect l="0" t="0" r="0" b="6081"/>
          <a:stretch/>
        </p:blipFill>
        <p:spPr>
          <a:xfrm>
            <a:off x="4140360" y="4508640"/>
            <a:ext cx="169704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500" autoRev="1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7,-70,-1)"/>
                                      </p:to>
                                    </p:set>
                                    <p:set>
                                      <p:cBhvr>
                                        <p:cTn id="262" dur="500" autoRev="1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7,-70,-1)"/>
                                      </p:to>
                                    </p:set>
                                    <p:set>
                                      <p:cBhvr>
                                        <p:cTn id="263" dur="500" autoRev="1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00:37:47Z</dcterms:created>
  <dc:creator>微软用户</dc:creator>
  <dc:description/>
  <dc:language>en-US</dc:language>
  <cp:lastModifiedBy>ydz</cp:lastModifiedBy>
  <dcterms:modified xsi:type="dcterms:W3CDTF">2012-05-14T07:01:36Z</dcterms:modified>
  <cp:revision>85</cp:revision>
  <dc:subject/>
  <dc:title>Module 5 Time  Unit 1 I get up at seven o’clock.</dc:title>
</cp:coreProperties>
</file>